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515-5F7C-4AF1-B4AC-E85E2456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FB5-3ABC-48FA-B33F-5B0D7ABF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AF37A-7910-459E-B004-8ECB2DDD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EB437-B89B-469E-B6FC-F84E375C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66D2E-EE88-4832-8AF2-0DC4FC2D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A75C9-9113-4A60-B68D-D3753AB1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14D8D-EB2F-413A-9E2D-1D628513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8D844-2379-47EE-A8D4-0C13C2DC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1CFB8-9832-42F1-9610-48CFE9C5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47A5E-D5DA-4E13-95A3-41D169B1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13FEE-9D68-4BC8-9D50-A47E3FF0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9E88F-2412-4090-9126-B1B31070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E6D-A436-4155-8508-796CF060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C9DAA-B61D-4020-A529-E40F5CDD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A8504-09E0-40A8-A2E7-51E3EAB3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A07CB-0B23-4BBD-969F-953E78FF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9B771-40E4-4994-9997-7EA9C2DA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6980C-CA28-4E21-91FF-D440ECA5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334A4-5A76-4CB8-91B1-BDB99E61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EE3BE-8106-4A9B-AAE9-71F5F610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6B9AE-627A-442D-9465-7A145220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45E80-1644-4091-B5E1-25BBC907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F5367-E621-493A-991D-54E3EA04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82A-846D-4484-A543-5AB717DA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24276-B108-4A2E-BB71-EE23A237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1BDA4-783F-467E-8748-0CE3FD2E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92419-2763-417E-BF4A-2AF8858A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151DC-DA6A-4612-A2AA-FB176592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56DDF-FD45-476C-8DD0-5C8BB357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1C6A4-5867-45E9-A1A8-2955DD8A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D61BE-9F49-492E-81DF-1FB70187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F3155-258A-4BB9-9D2D-A30FC712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88DDF-FF37-47DD-A909-3C859CA3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30854-054E-400A-B217-45480CD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8B47-31F5-48A9-92EA-4A7B7BA0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51C05-CD34-4230-A8C0-AAE46BBD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263C8-A84A-43CA-ACB3-1F900748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795C1-15AF-4D38-A19D-118D5DE5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2B4D7-D492-408F-8545-C73517A4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8B72E-8371-49F0-98FC-0DFB394E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A0A2D-3DBF-4391-9BEE-96D98B4D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7D3CE-1CB4-43B9-AF50-B4B077F0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6BFE8-1C21-404F-B4C5-0D704A5B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D23FC-588C-4732-960E-50FD427C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FDC04-DDBE-4E2F-BDA1-7B3F49B2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A2F9-245F-445B-AF74-F8B8EDAF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54B8C-7B74-4C99-BF62-DB3F468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0E124-BCE8-4353-BCD9-50F672FC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7E667-B017-4D7A-9CF9-C269D861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023D1-C6B8-4E4D-A957-CA7B3CD9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22F7C-EDFD-449C-8544-62071C1C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9C3B0-60CC-407D-9249-9A328C21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A33A5-30C4-45E1-B10A-2C87AB71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8DB02-DB0F-4065-8C35-18EC5DC7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6ED48-8FE8-4940-A8A0-38726E0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FFAFC-8AD4-4BD2-B30A-152BC153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A924-EF4B-4D1C-BFF4-4F08DEE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1F6DB-946E-496E-8EB7-77D3DB64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41DA7-7B0D-4096-9222-76058FE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112F6-4EEF-4B78-9556-03B240C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240D3-C76E-4DF9-8E9C-7F33D29F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9A078-9EDD-41BD-90A3-4F1F7D32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4FC05-AB20-4BAC-AC54-DD520775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2F7E0-8B1E-47A3-A6EF-E5BF075F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70E93-FF14-450D-A156-57B1B2A3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5F059-D66A-446A-B179-1FB2FA3D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7B3C8-19CC-4A65-83C9-8B5E214E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F398-B88B-45AB-9AC5-AFA9402A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2C5B8-7A58-4CC1-8FD3-639299F6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1F79F-594D-4121-B165-807498E9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BAF813-3E19-44C8-8132-049E3C74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740CA-F607-43B5-9A30-1FEF9DCC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51560-B59B-44B6-A4C1-BB285CE7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D5C80-46A5-40DF-9E85-158B9D77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EEE80-B3A9-41B3-A313-4B017CFC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B6922-9511-47C9-8D50-184C32D3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65358-0D7B-4105-BD2A-C0DEB166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D4C1A-DB15-494C-9D6A-EE6AFF40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E872-3A9E-4E76-A801-B79CAD67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C606A0-5B83-4D38-B7F8-DEF56FB5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4F73F-05BD-445C-BD20-EC02A70F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94A85-DB2A-4094-A8F1-CF67F698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8605C-184B-46F7-B501-2535A2AC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2610C-F747-42F0-8ADF-C971BEA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3DF48-D7DD-47C1-8617-41602172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48BA22-EE9A-4F23-AE1F-502C197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2B2CB-7E80-4B73-90DA-F32CF528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587AF0-CD75-43FB-A4D8-12B340C2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863EE-6DB1-4D19-A2D8-6C185961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5045-A640-40C7-B849-96BF4E57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87689-3227-4643-85A1-6650B761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C89F0-7B45-4555-8C1D-61651669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66568-68F9-45ED-A7F1-DA6A4D0D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1ACDE-E4AB-4231-898F-260725EB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FE89B-8984-4242-816F-EE64EF70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B43DC-A293-4631-A06B-52D93ADB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269DE-AC83-4E5B-97D6-6DAA83F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19134-5402-45C7-A8D2-32CA5FEB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B70AC-EFD7-4567-8CB4-55148A69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97C0C-15F0-4867-ACA2-2A170D65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B8EB-E4C6-4FF6-B916-AE846A4A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52BA5-8FDF-4449-B55C-2D9A43CB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2D85B-F931-4092-BF0E-DF4C51D7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3F84A-79D4-4D22-AA8D-9DCA44DA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C82DDD-2B57-432E-820A-07474EF8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452F0-A3E7-4380-B352-6354B8E5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C26E81-8E3E-400B-A210-060352C2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BC3FFA-AAE6-4877-A61A-E143B23B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D8C11C-3DA7-4170-A0BF-DFDC67E4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23ECF-8986-465D-94AA-68123CFA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E7EC9-3F8E-4555-B97A-352F8F06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DE8-129F-445A-AA2B-5D044D41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62A1-139E-4350-BD52-82FBF3F1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2DD54E-66B7-46A6-AFD8-4601EF05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63CCA-7F8E-41D8-84D4-4E3F549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CF132D-BEEC-468C-9B00-6D9F76D5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971DD-8603-4842-AC93-65CB16B3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AFACF-3D8C-447A-8FCD-AEA29D9E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26AC5-B886-4207-AC62-E9599DB8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1EECC-0113-464C-BD85-74F27F18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CFC510-9BCE-4E6F-8DCB-ECD2C1D8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B6AA0-604B-4DEA-A7ED-C90D5120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F7E33-5050-4904-BDFF-BEB9478F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B152-A7C8-4C34-90E2-6B8BC492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FD764-6793-42A1-9057-B78746A6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B70EB-BEDE-448B-BD57-9A391592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78CDF-C6F2-4B5D-9065-BF33048E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4C8D88-9BBA-41D2-9A0F-5C6AC849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00355-7751-4F5F-8B88-C740CCE5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AB4E5F-B15B-4F22-853C-778D7B4A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74073-CD89-415B-8D1A-F84505C9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02933-21B9-455E-A296-50653084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D582B5-0789-4D73-B65B-BEA0D024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CCD3C-5FBB-4B5D-A428-B4F3C61D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62DE-CF92-4824-AF17-1CBE5A6E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90B11-6746-4D0C-8001-47948732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07E79-C89B-4667-BCB4-C7200F1B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908C4-0CB1-4AD3-8E38-407E3BA3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4AB8D-31C5-4F58-9790-E90459FE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CF15B5-2C16-4C1C-A08C-0ABD4C2C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B20D3-FA98-4BF4-AED2-60501573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DFA09-F12A-4C46-91AB-EF6FA672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F272C-0B97-47E8-9C61-9C795DDF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E0F8F-39F6-40A2-81AF-19BE162A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ED848-36B3-4E4F-9E70-6E2AC741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ABEE-3F7D-4E46-8851-7E3425A6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5BA0A-3E0C-47A5-AFC6-2294903F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2D6BFB-42F4-4C24-84C0-2221000D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E21210-6FE0-4041-B270-88070389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12809-89C6-4D98-9D0E-433F1A76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11538-594D-4BE2-914D-D23A9EC0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EE488-D864-4925-B0CE-C81FC00C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93D7E8-BD3F-44B3-AD3C-565DCF76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46F76E-16D4-4F80-B276-3B9A67E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AF5952-7837-46BD-AE85-A5ED6968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FEE133-C159-436D-A8EB-1825D324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A792-F65C-4AF7-844B-13F249BB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CEF4D-B809-48CB-AB1F-39CA19E9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3E3C92-30BE-464B-A7AB-63D231AC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80C721-4C71-403A-B712-DBA3361F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ABCA7B-78C3-41F0-8D97-C386F52E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E2C1A9-1A58-4E8B-B4E0-38505492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447A85-CAC2-4F98-8A16-2A271EA6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F24EE3-9460-4F6E-97E0-B45318C6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465B8-3AF9-4181-A3F2-7136B1B7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21A68-EC71-43A3-B192-E54D9298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BDE9C-DEB3-4D6D-8CAB-37C8D7A1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050E-FC66-4A12-BDE4-3799BA11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EA04EA-84A8-4388-B9F0-BCE62EF4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55124-6123-4CEA-A0C9-E90F2080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56DF4-E3EC-481C-A223-73E046C1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E2FD56-8E29-48F6-BF80-50BCC5D0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A7BBF0-84A7-436A-BC2E-0B98EFF9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005D85-34EB-4054-AC1C-CF11A291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6F2E4C-BB5F-4115-8919-67216F25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7044A8-E900-490E-9F42-DDB67DAF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FFD5A9-428B-41A5-9B8D-03DA2C87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2D81CD-46D3-4A55-995F-29DD3216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0FC4-302E-45B5-AEA9-48683302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33E28E-287C-4C19-9017-A22DCAE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6AE50F-4283-48C8-B505-CCB7821D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2ED562-A5A4-49E6-8F43-9FCA39DC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47EF12-E228-49E4-B60E-2BC6DE86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208A77-39E4-40E3-BCE8-B4117595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106349-AD2C-4753-999A-037EE39A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68ACD2-2705-4110-B9E0-E95B4E7E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0E7D09-4303-4A7B-B047-434A29CC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59F8B1-4D36-4832-8F03-874F2B77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672FC8-DA62-4EE3-B16E-575D9EBF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88F36-F6AA-4319-AC9A-4CEF2B54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587806-270C-4BA3-9978-7283CA4B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C9F045-3383-453A-B4FF-E43291BF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1405E5-DA52-47F4-BB3F-1268E5FD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1A57A6-BC4A-4BF8-A3F2-ADF39E8F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002A8F-1BE7-4A04-BB79-6FF5B070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AF1211-EB5C-4479-95B6-BF086F15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68A80B-CCEB-402E-85A2-AE69BB3D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D717-87E4-420D-BBE5-A3237BF2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CBDC-D1AB-4BBD-9612-1B1C56BF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64E-09C1-473C-BA7F-9ABDF6B3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91D6-2313-48D2-AB3B-BF78E60A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E549-F428-4F0C-8E5E-BFD36A0E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4352C-4FFF-4CF2-9E57-045934D2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141E-7963-49AD-BE34-1D98A3BD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83EB-38C4-4E0C-9E10-6CEFD729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19EE-2D11-48D9-9CE4-42D4BF87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C3F1-0E26-406E-AE19-33EFCD05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CB92E-D85B-4CEC-873C-1F5EB1B1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D6C1-BB3C-4D32-B437-B4C9C580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B251-19BF-4EC2-9687-3DAFB8B4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AB6-B875-40E9-8702-C84923CF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7B7D-6D65-4F06-8AA8-706E662B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3A7B8-B773-4E53-AB30-C8DCF43E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19419-9E97-4FB3-B273-8ACEC838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AC78-88F7-4003-9977-4EDEBF2A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773CE-B9D0-4FEA-B987-E15495C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E252-8849-4611-9A55-90CB973F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70F0-D22B-4F5F-92C9-27BECE5C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8CC9-BF84-42A5-AA91-651B1F10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25CC-95CD-416C-A932-946F6F91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B91EC-2E5B-49A1-8498-5AA6BA15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C38-757F-49F9-B483-D493C602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6212-714C-4F1D-ADFB-94313333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4AF29-6C30-4650-828A-5E5C9129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F450D-77AB-4204-B854-A8E85BBD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72CF-D99A-43B2-BDC1-EF48DB8A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2D352-B218-407D-A1E3-C04FB20F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430C-F6F2-4426-8C50-56CBD503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4D878-D524-4B7B-BE5B-27C7403E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B05A-8221-4E7A-A201-50E7D34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9FD51-8A87-4AEF-ADF9-BF9C0A66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EAF6-9275-4D68-8FB9-17780D2C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54E-9D2D-4622-827A-921B7469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ABEA-44A2-4D74-BD70-BCD3FBF8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1723-BC2E-4DB1-A7BE-5AAC2AD2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AF69A-F987-40CE-8DEA-A4B03CE7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FA932-3AED-4992-8E6D-370E1619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5918D-C78F-4C3D-AEA2-82CD8FC6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31D66-486C-472B-8C49-5D5E9084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7A1B-A886-4A8C-ACF9-EE5C80A5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3E6BD-6F65-4985-89BC-47BF3DFB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EF553-9A1F-4FE7-BF85-B254318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84C1D-4CD4-43A2-B304-69A1CA5A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37F-41AB-4EC0-BAE4-D5EFF6B4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99FCE-56CB-48A2-9061-6D5727AC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48B1F-44E8-4C68-BDAB-B5111987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846FB-943F-4B53-ABA1-09B86A12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D8A7E-7085-4B25-B6A7-9D293028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09D26-CC77-4614-9ED2-450D7528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84F37-0D08-43A0-8E73-08FCF7F5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E98E7-23B4-41C4-BC55-37EA6299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7B09B-2F59-4925-A050-F8D27349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7DD3-3D80-4410-9BF2-56197618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E7E73-E369-4A0B-A8F6-C02204D4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192-04B0-4940-B182-9A641A8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CD4B-0D32-4FE3-A24B-BFA02FE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0BCE4-49FC-4D13-AB5B-26BAF471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49A5D-9313-44BD-86EB-7EDD9E36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3B24F-A89B-4D24-98DE-14DA2038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D83F4-F964-435D-A025-8A6E29AA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E687C-45FD-45A9-ADA1-3A047B3E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90A1F-59AB-4B74-9098-EAC75F66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AA02B-9016-4F47-A059-C5EEC7ED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3C8B7-10CA-4C0F-BF92-3E63E9C5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EFD29-A83E-45B4-8566-A17460A5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D26-B740-4B0C-9141-33832B5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D0BD1-9CBD-4338-B57C-036215AA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95AF6-9285-476C-B6CD-2E67CF91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7F835-DE3D-4F13-A53E-8EB97B4B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37AF7-549D-4F3F-9711-DD253B4D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B23D9-609E-48F2-8DEE-13D16D67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729A6-D8BD-4084-A078-7DFA0E0F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6B36E-1C13-4E53-98C8-25A4989C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5A740-AD92-466B-870D-43074331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66504-025C-47E8-AA6E-F338047A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7512F-CDC9-4F32-B3E6-07DF97BA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4E98-5726-4A54-86A3-A05245C644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3C21-6CE2-40B1-BD36-93F1C83410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B564-AAE3-473A-81E2-3E266C123A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1ECB-73E6-40CB-BED1-FDB46DB128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DF2E-E6DB-449A-AF27-431FD66B3A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F75C-6DEF-466A-BCBA-D27D41A47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0BC9-5E67-4283-BD6A-459D65EE5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146D-FF3F-4A07-A09E-E3091E722A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6C57-DBAA-4A31-B424-755B8A263B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39BD-FD60-40E1-9882-06463D1736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EC48-0D30-40E2-9487-5183D3BF43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99B2-F00B-4E87-B507-8681C720AF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8692-7B3B-4591-B24F-FFA43283EB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94AC-63D1-42AA-89E5-645C56ABA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ED61-357B-46A8-99E2-71189A89EF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1EA2-2DFB-42E7-97B4-4A4A4EDABC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34E-045A-499E-A0C9-B65B414DC0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35C3-7E2C-4ACC-94B5-E24F8D7C3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03E0-D57E-4AC2-B44B-A0B579E246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EB13-ED5E-4487-9BEF-C97AE3891A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052E-0F99-4617-BB88-B91F21CEA8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C5F2-58F6-4F92-B92A-A4486D5ED4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24DE-C718-4524-83B4-6BEA640D69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D2BD-A376-46D9-A492-5E8ECFD19E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A67A-7738-4F26-9367-5A9E9D1D86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C190-E767-44A6-8AA4-9642C03306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0701-675A-4837-AD7C-8775AA4A66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344A-E676-4E7F-BA33-454EF80DEC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475B-2450-465E-8A0A-5DCD9A723F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640B-7880-4F19-90DF-9F74567CD3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7E4C-A6A7-436D-999F-4C03A0FD31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73BF-DC74-4402-8237-7B4FB833E6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766E-3829-4161-AF36-071D780FBA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0AB5-7CA3-45D3-8669-B5D4C023BF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D703-C317-45DE-99F2-759BC5ECE6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F0DE-123D-414C-9E75-4B2B56F670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788E-A58D-4D5A-AB54-83E8BAB159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057D-830B-4B7F-B49F-F77C471ADF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11E7-384A-4697-A59F-EC9335B74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5466-D5DE-4379-AE39-34E64F9D3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F85A-F0B7-4DC7-BB43-B749B3D7EF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5789-EF66-4AF4-B2E3-2635D75CF2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03120" y="3094200"/>
            <a:ext cx="8236080" cy="66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262080" y="933480"/>
            <a:ext cx="8619840" cy="4991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7561440" cy="10810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756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90600" y="914400"/>
            <a:ext cx="8362800" cy="56102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76360" y="3687840"/>
            <a:ext cx="237492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50872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50872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50872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492360" y="5172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6372360" y="521496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338040" y="1095480"/>
            <a:ext cx="8467920" cy="46670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2374920" cy="20890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2987640" y="211932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5438880" y="2665440"/>
            <a:ext cx="2878200" cy="31399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5"/>
          <a:stretch/>
        </p:blipFill>
        <p:spPr>
          <a:xfrm>
            <a:off x="7091280" y="2076480"/>
            <a:ext cx="172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419040" y="1262160"/>
            <a:ext cx="8305920" cy="43336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2879640" cy="30240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3002040" y="1628640"/>
            <a:ext cx="16412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022560" cy="3024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7120080" y="1628640"/>
            <a:ext cx="16412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281160" y="1138320"/>
            <a:ext cx="8581680" cy="45813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3635280" y="31701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3635280" y="40338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3635280" y="48830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7667640" y="23353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7594560" y="31561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7594560" y="40194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7524720" y="4869000"/>
            <a:ext cx="1077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757080" y="2333520"/>
            <a:ext cx="7629840" cy="2190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4356000" y="301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7308720" y="34574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37960" y="876240"/>
            <a:ext cx="8668080" cy="51055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3060720" y="3198960"/>
            <a:ext cx="430200" cy="382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135920" y="3213000"/>
            <a:ext cx="430200" cy="3826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2828880" y="4264200"/>
            <a:ext cx="430200" cy="382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7135920" y="4249800"/>
            <a:ext cx="430200" cy="382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3044880" y="5300640"/>
            <a:ext cx="430200" cy="382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7149960" y="5288040"/>
            <a:ext cx="4302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90440" y="885960"/>
            <a:ext cx="8763120" cy="5086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00000" y="450864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826920" y="5315040"/>
            <a:ext cx="79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66680" y="1266840"/>
            <a:ext cx="8810640" cy="4324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900000" y="406080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00000" y="4869000"/>
            <a:ext cx="669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6:2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